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F1C-043C-4FEC-899B-EDA74BAF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BF9-F102-45EB-8F8C-B7C6588E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616-233B-4C03-BED6-DAF94F2A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0D6-A080-442B-B443-B918B8F7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C520-BE5C-490E-A75C-BEC04D5E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36CE-0D32-4501-830F-B5D1F8D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E606-7471-4E5A-B231-E721DD4D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DCDF-6EB2-49A9-B407-BF691991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544C-BF8C-43C4-817C-45A948E2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2D4B-9001-4E03-868C-E9D352A0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7761-FD0E-4E1E-A996-414BE748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247-E4E5-4F91-BB2C-B5A4AFA9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38F1-9E8A-4C57-9DAB-A42F6FCA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B8E-8D72-4EE2-9AF3-25759660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D254-8388-4B42-A32A-E6A7417D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B94C-33C9-42E6-8A33-5E1DABB4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051F-1929-4674-B732-4983A085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E997-9C95-4913-90E0-67AE90D0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065C-3B2E-45FD-B627-F4942285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BBBA-758C-4F96-8C18-9096341F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85D9-7185-4DD0-B3E6-9069BABD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6770-47DF-49E4-ACC5-0F94C16B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352-2779-44E6-AAE2-75A37D6F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90E2D-8038-4781-A764-AA92C86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8A01-7264-4796-99BE-EC99974F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9821-3938-4D0C-8CBD-4FEBF6F5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52D0-B187-4930-B3DA-A971174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603F-2B65-46BF-B0D0-657F64E3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51F1-B1AC-4937-9416-38100791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1C8E-D2A2-46EF-A3A4-F6457D75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ED1C4-8EAC-47D9-8B55-9CB4E5B1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91F9-138C-4AEA-9700-EA3E1A04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3B53-CDF5-422E-804E-EB8612D2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A08-738F-4CB4-A9C3-B250DE40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698A-F53F-40E1-A26F-DA710D6C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7310-DCEB-4ADF-AF4E-2199E138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280B-5D51-4237-A915-F9DCB7B2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7ADBF-B846-4153-ABB4-EB35685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4048-948B-43B8-872E-FCC8D419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9A4A-7F57-477D-AD6D-21EABA9E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5FB6-6682-4C45-BFD1-6AF3427D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D8A4-71E5-4D22-87C6-730096D1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F1A1-8FDA-4CA5-857F-04220E99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979C-3457-4479-B139-A73931C5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151-91C3-4770-ABA5-614F71E3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6021D-0C1D-47DC-8ABF-96BE9C7C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2265D-2D5D-4352-A962-CC48B345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A5DF1-4D76-4BDD-8859-5E3C50A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A850F-295C-41A4-B155-3BF37668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0635D-5CFC-4D40-9C99-C1408EB4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97D63-6335-4BBC-A54A-C2025C28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6D03-7375-4FE4-B354-D5E0FA5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0A92-3136-4E9C-BFF9-1623111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980A-D7C5-4ADE-95A2-50BE8CC7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ED21D-9F6A-4D41-B305-980108E7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E57-D5FE-46CA-8C0D-31A72DB8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6CC4-2636-40BE-B365-01104D7B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635-20A5-4161-8195-9AA12CDC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F34-764B-4161-ABF3-B4445054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0BE-D2CF-4A81-8816-0B78B4F9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C14B-43B8-418D-9B5F-1EAD3637334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9632-117A-4507-BD5D-1040C4074D8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66E-24B1-472E-8922-C767A64A933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726C-8EC1-4B20-BC91-B1E3619C6F4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0223-461B-414D-ACA4-9300E244D9B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Destiny Tucker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word clock was first used i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1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entury, it’s from the Lat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ord “clocca” which means bel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re’s not one actual inventor of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clock, but there are differen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ventors for the different types o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ock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the early 1750’s, Benjami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nneker invented the first cloc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clock.gif"/>
          <p:cNvPicPr/>
          <p:nvPr/>
        </p:nvPicPr>
        <p:blipFill>
          <a:blip r:embed="rId2"/>
          <a:stretch/>
        </p:blipFill>
        <p:spPr>
          <a:xfrm>
            <a:off x="5867280" y="3470400"/>
            <a:ext cx="19814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08960" cy="115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ndulum clock- Christian Huyge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Quartz clock-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rist watc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totype alarm clock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chanical alarm cloc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ristian Huygens made clock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re accurate when he invent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pendulum cloc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3" descr="time8.bmp"/>
          <p:cNvPicPr/>
          <p:nvPr/>
        </p:nvPicPr>
        <p:blipFill>
          <a:blip r:embed="rId2"/>
          <a:stretch/>
        </p:blipFill>
        <p:spPr>
          <a:xfrm>
            <a:off x="6019920" y="1523880"/>
            <a:ext cx="16002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about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Wiki.answer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answer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horlogy-stuff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www.black-inventor.com/Benjamin-Banneker.as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38:53Z</dcterms:created>
  <dc:creator>student</dc:creator>
  <dc:description/>
  <dc:language>en-US</dc:language>
  <cp:lastModifiedBy>Taylor</cp:lastModifiedBy>
  <dcterms:modified xsi:type="dcterms:W3CDTF">2010-09-23T21:39:29Z</dcterms:modified>
  <cp:revision>13</cp:revision>
  <dc:subject/>
  <dc:title>The History of Clocks </dc:title>
</cp:coreProperties>
</file>